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9.png" ContentType="image/png"/>
  <Override PartName="/ppt/media/image17.wmf" ContentType="image/x-wmf"/>
  <Override PartName="/ppt/media/image13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3.jpeg" ContentType="image/jpeg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BAF6-9431-4C3B-9989-83AC0525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1EDB-26CF-40B4-8A34-722D15EB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A19-8310-4B97-B6DF-42B27501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5AF9-9AFE-4376-B6DC-779354BE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127-22C1-4D06-86FB-B5013FAA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B648-154E-4E0A-8D7B-EE04B566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69EA-D17B-418E-AC8F-ACA0C7F2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A74F-C8CE-47A0-9400-EDB0733F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B4B6-0560-46E7-8A28-8D28E6F7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A0BB-DCC1-47E2-9092-5E21811F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3FC1-10BA-4761-9B1E-D7EE5052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43F5-FF43-49AF-81D3-BA24DE3F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1597-7C11-4BC3-A237-5E8C76E40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838080"/>
            <a:ext cx="7238880" cy="238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PASO EN ESPANO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3151080"/>
            <a:ext cx="449604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5335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68580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ok at the following pictures and remember what they are in Span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27672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mazone BT"/>
              </a:rPr>
              <a:t>Ex:</a:t>
            </a:r>
            <a:r>
              <a:rPr b="0" lang="en-GB" sz="4000" spc="-1" strike="noStrike">
                <a:solidFill>
                  <a:srgbClr val="000000"/>
                </a:solidFill>
                <a:latin typeface="Amazone BT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mazone BT"/>
              </a:rPr>
              <a:t>la cl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94000" y="1905120"/>
            <a:ext cx="3984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352520" cy="923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228600"/>
            <a:ext cx="1295280" cy="1271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33520" y="2209680"/>
            <a:ext cx="175248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010280" y="380880"/>
            <a:ext cx="1324080" cy="1047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705720" y="2362320"/>
            <a:ext cx="190332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4876920" y="5715000"/>
            <a:ext cx="353376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487440" y="4952880"/>
            <a:ext cx="1093680" cy="1171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1905120" y="4495680"/>
            <a:ext cx="1866960" cy="1363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2438280" y="1523880"/>
            <a:ext cx="1290600" cy="746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4876920" y="198108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3581280" y="3200400"/>
            <a:ext cx="885960" cy="1362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38280" y="228600"/>
            <a:ext cx="175284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La s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1371600"/>
            <a:ext cx="175248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escri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0" y="1447920"/>
            <a:ext cx="1752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sacapu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3276720"/>
            <a:ext cx="17528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El rel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4419720"/>
            <a:ext cx="175248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cru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4495680"/>
            <a:ext cx="20574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s estudi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5791320"/>
            <a:ext cx="17524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99"/>
                </a:solidFill>
                <a:latin typeface="Times New Roman"/>
              </a:rPr>
              <a:t>El bor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248520"/>
            <a:ext cx="17524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l boligra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6248520"/>
            <a:ext cx="1752480" cy="38088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l lap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2209680"/>
            <a:ext cx="1752840" cy="3812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m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143000"/>
            <a:ext cx="1752480" cy="3808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estudi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3505320"/>
            <a:ext cx="17524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piza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343400" y="685800"/>
            <a:ext cx="1600200" cy="1173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1447920" cy="1307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1457280" cy="1542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705720" y="2286000"/>
            <a:ext cx="1695240" cy="1676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762120" y="52578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6553080" y="4495680"/>
            <a:ext cx="1546200" cy="1681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4038480" y="4648320"/>
            <a:ext cx="1305000" cy="1181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2971800" y="2666880"/>
            <a:ext cx="1424160" cy="13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1752480" y="304920"/>
            <a:ext cx="2133720" cy="1203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3808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1447920"/>
            <a:ext cx="236196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 helicóp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419720"/>
            <a:ext cx="2362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 b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6095880"/>
            <a:ext cx="23623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 ca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5867280"/>
            <a:ext cx="2362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 bicic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6172200"/>
            <a:ext cx="236196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caba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1600200"/>
            <a:ext cx="2361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3962520"/>
            <a:ext cx="236232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 m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4038480"/>
            <a:ext cx="236196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 av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1905120"/>
            <a:ext cx="23623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 tré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209680"/>
            <a:ext cx="2286000" cy="15242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029200"/>
            <a:ext cx="2286000" cy="1523880"/>
          </a:xfrm>
          <a:prstGeom prst="irregularSeal1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648320"/>
            <a:ext cx="2286000" cy="152388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4952880"/>
            <a:ext cx="2286000" cy="1524240"/>
          </a:xfrm>
          <a:prstGeom prst="irregularSeal1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3429000"/>
            <a:ext cx="2286000" cy="15238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1676520"/>
            <a:ext cx="2286000" cy="1523880"/>
          </a:xfrm>
          <a:prstGeom prst="irregularSeal1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28600"/>
            <a:ext cx="2286000" cy="152388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228600"/>
            <a:ext cx="2286000" cy="152388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43800" y="3049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990720"/>
            <a:ext cx="2286000" cy="1523880"/>
          </a:xfrm>
          <a:prstGeom prst="irregularSeal1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2286000"/>
            <a:ext cx="2286000" cy="1523880"/>
          </a:xfrm>
          <a:prstGeom prst="irregularSeal1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3581280"/>
            <a:ext cx="2286000" cy="152424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6248520"/>
            <a:ext cx="2286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g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6172200"/>
            <a:ext cx="2286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1600200"/>
            <a:ext cx="2286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r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4495680"/>
            <a:ext cx="2286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r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3581280"/>
            <a:ext cx="2286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5791320"/>
            <a:ext cx="2286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04920"/>
            <a:ext cx="2286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80880"/>
            <a:ext cx="2286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1828800"/>
            <a:ext cx="2286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2362320"/>
            <a:ext cx="2286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ma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3200400"/>
            <a:ext cx="2286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o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13111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781680" y="0"/>
            <a:ext cx="1866960" cy="1793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419720" y="2438280"/>
            <a:ext cx="1252440" cy="1943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28600" y="3581280"/>
            <a:ext cx="1817640" cy="2371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6934320" y="2438280"/>
            <a:ext cx="1695240" cy="1362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7010280" y="4876920"/>
            <a:ext cx="1190880" cy="868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4114800" y="4419720"/>
            <a:ext cx="1628640" cy="1866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3049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666880" y="533520"/>
            <a:ext cx="3429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alabras de familia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666880"/>
            <a:ext cx="32767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a madre, la tia, la esposa, la muj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3581280"/>
            <a:ext cx="251460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a chica, la nina, la hij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a herm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3962520"/>
            <a:ext cx="32767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l hijo, el hermano, el chico y su per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1905120"/>
            <a:ext cx="28958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os esposos, los padres, los t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5867280"/>
            <a:ext cx="274320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nino, el beb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943600"/>
            <a:ext cx="259056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padre y los h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4648320"/>
            <a:ext cx="17524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a abuela y la ni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FAM12" descr=""/>
          <p:cNvPicPr/>
          <p:nvPr/>
        </p:nvPicPr>
        <p:blipFill>
          <a:blip r:embed="rId1"/>
          <a:stretch/>
        </p:blipFill>
        <p:spPr>
          <a:xfrm>
            <a:off x="3657600" y="990720"/>
            <a:ext cx="809640" cy="1066680"/>
          </a:xfrm>
          <a:prstGeom prst="rect">
            <a:avLst/>
          </a:prstGeom>
          <a:ln w="0">
            <a:noFill/>
          </a:ln>
        </p:spPr>
      </p:pic>
      <p:pic>
        <p:nvPicPr>
          <p:cNvPr id="129" name="FAM20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631800" cy="838440"/>
          </a:xfrm>
          <a:prstGeom prst="rect">
            <a:avLst/>
          </a:prstGeom>
          <a:ln w="0">
            <a:noFill/>
          </a:ln>
        </p:spPr>
      </p:pic>
      <p:pic>
        <p:nvPicPr>
          <p:cNvPr id="130" name="FAM27" descr=""/>
          <p:cNvPicPr/>
          <p:nvPr/>
        </p:nvPicPr>
        <p:blipFill>
          <a:blip r:embed="rId3"/>
          <a:stretch/>
        </p:blipFill>
        <p:spPr>
          <a:xfrm>
            <a:off x="6095880" y="4343400"/>
            <a:ext cx="1573200" cy="1373040"/>
          </a:xfrm>
          <a:prstGeom prst="rect">
            <a:avLst/>
          </a:prstGeom>
          <a:ln w="0">
            <a:noFill/>
          </a:ln>
        </p:spPr>
      </p:pic>
      <p:pic>
        <p:nvPicPr>
          <p:cNvPr id="131" name="FAMIL061" descr=""/>
          <p:cNvPicPr/>
          <p:nvPr/>
        </p:nvPicPr>
        <p:blipFill>
          <a:blip r:embed="rId4"/>
          <a:stretch/>
        </p:blipFill>
        <p:spPr>
          <a:xfrm>
            <a:off x="609480" y="2819520"/>
            <a:ext cx="924120" cy="990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8600" y="457200"/>
            <a:ext cx="822960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la!  Me llamo Carla y esta es mi famili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quí hay mi __________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Ella se llama Lo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 tiene 23 anos.  Ella siempre esta’ contenta y ocupada.  Este es 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____ Pablo. El tiene 5 anos, es chiquit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y  activo. Este es mi amigo Raul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l es un chico mu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patico pero tambien esta’ siempre nervioso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mano Paco ahora es muy triste.  Paco y Raul son los hij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 rot="204000">
            <a:off x="5105160" y="228240"/>
            <a:ext cx="365760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Una lectutra sobre la famil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FAM254" descr=""/>
          <p:cNvPicPr/>
          <p:nvPr/>
        </p:nvPicPr>
        <p:blipFill>
          <a:blip r:embed="rId1"/>
          <a:stretch/>
        </p:blipFill>
        <p:spPr>
          <a:xfrm>
            <a:off x="3886200" y="0"/>
            <a:ext cx="44460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CREST003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1143000" cy="931680"/>
          </a:xfrm>
          <a:prstGeom prst="rect">
            <a:avLst/>
          </a:prstGeom>
          <a:ln w="0">
            <a:noFill/>
          </a:ln>
        </p:spPr>
      </p:pic>
      <p:pic>
        <p:nvPicPr>
          <p:cNvPr id="136" name="CREST015" descr=""/>
          <p:cNvPicPr/>
          <p:nvPr/>
        </p:nvPicPr>
        <p:blipFill>
          <a:blip r:embed="rId3"/>
          <a:stretch/>
        </p:blipFill>
        <p:spPr>
          <a:xfrm>
            <a:off x="7543800" y="1219320"/>
            <a:ext cx="1079640" cy="1179360"/>
          </a:xfrm>
          <a:prstGeom prst="rect">
            <a:avLst/>
          </a:prstGeom>
          <a:ln w="0">
            <a:noFill/>
          </a:ln>
        </p:spPr>
      </p:pic>
      <p:pic>
        <p:nvPicPr>
          <p:cNvPr id="137" name="CREST030" descr=""/>
          <p:cNvPicPr/>
          <p:nvPr/>
        </p:nvPicPr>
        <p:blipFill>
          <a:blip r:embed="rId4"/>
          <a:stretch/>
        </p:blipFill>
        <p:spPr>
          <a:xfrm>
            <a:off x="2362320" y="2666880"/>
            <a:ext cx="1155600" cy="1447920"/>
          </a:xfrm>
          <a:prstGeom prst="rect">
            <a:avLst/>
          </a:prstGeom>
          <a:ln w="0">
            <a:noFill/>
          </a:ln>
        </p:spPr>
      </p:pic>
      <p:pic>
        <p:nvPicPr>
          <p:cNvPr id="138" name="FAMIL043" descr=""/>
          <p:cNvPicPr/>
          <p:nvPr/>
        </p:nvPicPr>
        <p:blipFill>
          <a:blip r:embed="rId5"/>
          <a:stretch/>
        </p:blipFill>
        <p:spPr>
          <a:xfrm>
            <a:off x="3124080" y="5257800"/>
            <a:ext cx="1013040" cy="1295280"/>
          </a:xfrm>
          <a:prstGeom prst="rect">
            <a:avLst/>
          </a:prstGeom>
          <a:ln w="0">
            <a:noFill/>
          </a:ln>
        </p:spPr>
      </p:pic>
      <p:pic>
        <p:nvPicPr>
          <p:cNvPr id="139" name="FAMIL069" descr=""/>
          <p:cNvPicPr/>
          <p:nvPr/>
        </p:nvPicPr>
        <p:blipFill>
          <a:blip r:embed="rId6"/>
          <a:stretch/>
        </p:blipFill>
        <p:spPr>
          <a:xfrm>
            <a:off x="2362320" y="4648320"/>
            <a:ext cx="838080" cy="725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0"/>
            <a:ext cx="88390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 vecino el Sr. Gonzale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tiene un otro hij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y joven que se llama  Gerardo.  El Sr. Gonzales tiene 23 anos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 rubio. Su familia y nuestra somos unidos y muchas vece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emos la television juntos en su casa o en la nuestra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mi familia les gusta mucho ir de vacacione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 jugar deporte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 tengo también tíos y tías.  U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 mis tíos favoridos es  tío Jorge.  El es un poquito gordo por qu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siempre come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ana el el cumpleanos de mi abuel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cumple 66 ano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eliz cumpleanos abuelito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14:42:57Z</dcterms:created>
  <dc:creator>ValeriaP</dc:creator>
  <dc:description/>
  <dc:language>en-US</dc:language>
  <cp:lastModifiedBy>Preferred Customer</cp:lastModifiedBy>
  <dcterms:modified xsi:type="dcterms:W3CDTF">2001-01-08T01:07:24Z</dcterms:modified>
  <cp:revision>7</cp:revision>
  <dc:subject/>
  <dc:title>No Slide Title</dc:title>
</cp:coreProperties>
</file>